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8A4E-844B-4FD7-8649-064C2B72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00C5-88DF-479D-991D-4FFD27BC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16C0-FE22-4FAF-9DE9-7E91C62F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4AF2-FE81-4AF0-9ECF-E677E905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D7B8-EB45-4B43-8E8B-FE36ABE0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83D9-591B-450D-989C-13E0601F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FDD8-C45A-436A-8CD5-B32EAD1B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D309-CE18-435B-9F3F-A57FD592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4C1F-9DCD-48AA-8482-40ABC008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C7D3-DBA9-4B3E-84D0-E47AD1B2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B960-9402-49EF-805F-3F25A4B3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2082-7757-4FC1-9EF4-08A8F710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5B99-8684-427B-BF56-38F0889FACD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7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184320" y="1471680"/>
            <a:ext cx="870876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69720" y="5805360"/>
            <a:ext cx="85694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هداية بيد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خطاب : للنبي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3"/>
          <a:stretch/>
        </p:blipFill>
        <p:spPr>
          <a:xfrm>
            <a:off x="1835280" y="981000"/>
            <a:ext cx="7135560" cy="647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4"/>
          <a:stretch/>
        </p:blipFill>
        <p:spPr>
          <a:xfrm>
            <a:off x="1368360" y="2492280"/>
            <a:ext cx="7524720" cy="1028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"/>
          <p:cNvPicPr/>
          <p:nvPr/>
        </p:nvPicPr>
        <p:blipFill>
          <a:blip r:embed="rId5"/>
          <a:stretch/>
        </p:blipFill>
        <p:spPr>
          <a:xfrm>
            <a:off x="1359000" y="4149720"/>
            <a:ext cx="7534080" cy="170496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324000" y="3573360"/>
            <a:ext cx="85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حريم لعن المؤم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50920" y="1639800"/>
            <a:ext cx="85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طرد من رحمة الله تعالى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374"/>
          <a:stretch/>
        </p:blipFill>
        <p:spPr>
          <a:xfrm>
            <a:off x="476280" y="2349360"/>
            <a:ext cx="8191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2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67040" y="4976640"/>
            <a:ext cx="350532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179280" y="1522440"/>
            <a:ext cx="86407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ما ذكر الله صفات السعداء ذكر هنا صفات الأشقي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5364000" y="912960"/>
            <a:ext cx="35690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108000" y="981000"/>
            <a:ext cx="8856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63680" y="2114640"/>
            <a:ext cx="8429400" cy="318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-15840" y="911160"/>
            <a:ext cx="9139320" cy="86220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72880" y="468792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رجع إلي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057480" y="1190520"/>
            <a:ext cx="417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صفات الأشقيا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كفر سبب الطرد من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رحمة الله والهلاك في جهن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عز وجل هو المعطي المانع يعطي ويمنع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سبحانه يعطي الدني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يحب ومن لا يح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بسط الرزق لا يدل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كرا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قبض الرزق لا يدل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ها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لى المؤمن تجاه ما أُعطي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رضى والتسليم والقناع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 الهداية والضلال بيد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سبحان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حتجاج على المعاصي بمشيئ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508464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عدم جواز الاحتجاج على المعاصي بمشيئ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هذا من جنس حجة الكفار وهي حجة داحضة لا تف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79280" y="1522440"/>
            <a:ext cx="864072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نقضون عهد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قطعون ما أمر الله به أن يوص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فسدون في الأرض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فرح بالحياة الدنيا عن الا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ؤمنون بما جاء به الرسل من عند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4070520" y="942840"/>
            <a:ext cx="474948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6T18:13:23Z</dcterms:modified>
  <cp:revision>2087</cp:revision>
  <dc:subject/>
  <dc:title>عرض تقديمي في PowerPoint</dc:title>
</cp:coreProperties>
</file>